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CB06-34B9-4352-8BB1-60AD9E572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3434-48AC-4560-8809-FC739D3F0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8EAE-9F54-41DB-9FF4-8D8768244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96DA-9770-42F2-83C1-11D6CEBE0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DD3B-414A-412A-88D1-91EE7F652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2108-AC05-4BF8-B97E-49789BA00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55C5-9019-486F-A62E-3DD02659A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E8A9-D07F-43B6-960C-752A4E98A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AE66-7D4E-4FA3-A3D8-30005AA88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AFA8-B7D2-41B9-B3DC-959BE3EC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BB2A-221A-4E2F-AEAE-53D2659C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5623-7468-4D18-BC1F-C41AD20A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E3B45-2869-4ACB-BE44-888493421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hyperlink" Target="http://en.wikipedia.org/wiki/File:Herbert_Hoover.jp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hyperlink" Target="http://en.wikipedia.org/wiki/File:FDR_in_1933.jpg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mbw"/>
          <p:cNvPicPr/>
          <p:nvPr/>
        </p:nvPicPr>
        <p:blipFill>
          <a:blip r:embed="rId1"/>
          <a:stretch/>
        </p:blipFill>
        <p:spPr>
          <a:xfrm>
            <a:off x="539640" y="493560"/>
            <a:ext cx="8064720" cy="60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PoliticalCartoon8"/>
          <p:cNvPicPr/>
          <p:nvPr/>
        </p:nvPicPr>
        <p:blipFill>
          <a:blip r:embed="rId1"/>
          <a:stretch/>
        </p:blipFill>
        <p:spPr>
          <a:xfrm>
            <a:off x="0" y="1197000"/>
            <a:ext cx="4167360" cy="5661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fdr-his-baby-now"/>
          <p:cNvPicPr/>
          <p:nvPr/>
        </p:nvPicPr>
        <p:blipFill>
          <a:blip r:embed="rId2"/>
          <a:stretch/>
        </p:blipFill>
        <p:spPr>
          <a:xfrm>
            <a:off x="4384800" y="1197000"/>
            <a:ext cx="4759200" cy="5661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245px-Herbert_Hoover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48000" y="0"/>
            <a:ext cx="195120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CartoonFrom1934"/>
          <p:cNvPicPr/>
          <p:nvPr/>
        </p:nvPicPr>
        <p:blipFill>
          <a:blip r:embed="rId1"/>
          <a:stretch/>
        </p:blipFill>
        <p:spPr>
          <a:xfrm>
            <a:off x="4838760" y="1552680"/>
            <a:ext cx="4305240" cy="5305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fdr-march-32"/>
          <p:cNvPicPr/>
          <p:nvPr/>
        </p:nvPicPr>
        <p:blipFill>
          <a:blip r:embed="rId2"/>
          <a:stretch/>
        </p:blipFill>
        <p:spPr>
          <a:xfrm>
            <a:off x="0" y="1557360"/>
            <a:ext cx="4314960" cy="5300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" descr="200px-FDR_in_193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64000" y="0"/>
            <a:ext cx="190476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pigs-at-the-trough1"/>
          <p:cNvPicPr/>
          <p:nvPr/>
        </p:nvPicPr>
        <p:blipFill>
          <a:blip r:embed="rId1"/>
          <a:stretch/>
        </p:blipFill>
        <p:spPr>
          <a:xfrm>
            <a:off x="179280" y="404640"/>
            <a:ext cx="4486320" cy="6121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FDR-Press-release-image"/>
          <p:cNvPicPr/>
          <p:nvPr/>
        </p:nvPicPr>
        <p:blipFill>
          <a:blip r:embed="rId2"/>
          <a:stretch/>
        </p:blipFill>
        <p:spPr>
          <a:xfrm>
            <a:off x="4791240" y="404640"/>
            <a:ext cx="435276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nd! Spend! Spend! – Roosevelt’s New De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deficits to prevent starvation and dire w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opened the banks and ended the “noble experimen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100 days, got 15 acts through Congress: emergency relief, mortgage relief , farm credit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alued the dollar to raise prices….all gold must be turned 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CC -  Civilian Conservation Corps( 3 million m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WA – Civil Works Administration( $900 million in w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RA – National Recovery Administration ( stabilize business and indust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ak the Rich” tax (75%) , unemployment and old age insurance , public welfare 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WWII would be bring full production and full employment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10602cs"/>
          <p:cNvPicPr/>
          <p:nvPr/>
        </p:nvPicPr>
        <p:blipFill>
          <a:blip r:embed="rId1"/>
          <a:stretch/>
        </p:blipFill>
        <p:spPr>
          <a:xfrm>
            <a:off x="0" y="404640"/>
            <a:ext cx="4321080" cy="6120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10519cs"/>
          <p:cNvPicPr/>
          <p:nvPr/>
        </p:nvPicPr>
        <p:blipFill>
          <a:blip r:embed="rId2"/>
          <a:stretch/>
        </p:blipFill>
        <p:spPr>
          <a:xfrm>
            <a:off x="4419720" y="836640"/>
            <a:ext cx="472428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seussappeasement"/>
          <p:cNvPicPr/>
          <p:nvPr/>
        </p:nvPicPr>
        <p:blipFill>
          <a:blip r:embed="rId1"/>
          <a:stretch/>
        </p:blipFill>
        <p:spPr>
          <a:xfrm>
            <a:off x="1476360" y="766800"/>
            <a:ext cx="6264360" cy="53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Hitler%20Cartoon"/>
          <p:cNvPicPr/>
          <p:nvPr/>
        </p:nvPicPr>
        <p:blipFill>
          <a:blip r:embed="rId1"/>
          <a:stretch/>
        </p:blipFill>
        <p:spPr>
          <a:xfrm>
            <a:off x="826920" y="682560"/>
            <a:ext cx="7561440" cy="55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01:56:54Z</dcterms:created>
  <dc:creator>User</dc:creator>
  <dc:description/>
  <dc:language>en-US</dc:language>
  <cp:lastModifiedBy>ladmin</cp:lastModifiedBy>
  <dcterms:modified xsi:type="dcterms:W3CDTF">2011-01-12T13:24:55Z</dcterms:modified>
  <cp:revision>2</cp:revision>
  <dc:subject/>
  <dc:title>Slide 1</dc:title>
</cp:coreProperties>
</file>